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2CEA-7D52-4303-A4F6-976EFF20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C113-4261-426F-BF83-B0D03ABB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83B0-0E49-4B2D-990B-BF8EDCF4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BDBF-152C-4296-9B2B-9F750E91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CE3C-DDC1-42D7-B38D-0D445439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7F04-6067-49C7-9E80-87D4B543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9022-D2EB-4F58-A6B3-973C6584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E3F3-2205-4DE7-A2E3-BDE8D8F1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2A4A-E765-4357-8158-E26F2F53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E036-29B9-4A89-98BB-5B26E471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0A33-BBEA-4798-8AD6-C6188176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1037-05AA-402D-853D-BFCB68B9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F6ED-42D3-4842-A468-3748F764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8C98-9DFB-4420-B145-693C9AF4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B2FA-982D-4884-95EF-404AAB5C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F247-D836-44F8-9CFD-63D0C35B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2501-6BEF-492E-A175-D03D2B06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4D39-2DB3-4D63-B13E-2927422C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B164-4D76-40F2-BF76-DF96D4A9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FC35-0F0E-4F43-A7D0-D8B30519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08D3-2794-40A7-85CD-45CF1BBF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9A85-106E-405F-836C-D1666ECB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4C7AD-E44D-4B9C-AEDF-27F0C8E8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E6CB-11FC-4BFA-90E8-1886C7AD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416B-FE37-427B-865D-03E03B0CED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EC86-60DB-4FE9-A3B4-3F94D6197C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Teachers’ profil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rd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ia, Gree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284360" y="836640"/>
            <a:ext cx="453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name is Aristi Koukourikou and I’m a school teacher. I’m teaching in the 6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Grade of the 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imary school in Veria, Greece. I like my job very much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’m very much interested in literacy, local history and the environment. I’m also keen on politic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have a master degree in Teaching Language and I speak English, Italian and Serb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like surfing in the Internet, reading news and listening to the music. But most of all, I like visiting other countries and knowing their cul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ia is a small town with a big history. I hope you enjoy its pictur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, I’m not married! That’s the lif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7"/>
          <a:stretch/>
        </p:blipFill>
        <p:spPr>
          <a:xfrm>
            <a:off x="971640" y="1197000"/>
            <a:ext cx="30290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name is Vasilis Touliopoulos. I am a teacher. I work in the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imary School, in Veria. I live near the school, in the centre of the t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married to a teacher and I have an only son. He is nine years 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’m very much interested in computers and I like surfing into the N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my pleasure to join this project as a technical suppor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4648320" y="2346480"/>
            <a:ext cx="374004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4392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name is Roula Tsitiridou. I am forty six years old. I’m married and I’ve got two children, a nineteen years old daughter and a son aged fifte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live in Veria. I am an English teacher. I have been working in the public sector for twenty ye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’m interested in political and religions matters. In my spare time I visit churches and I am currently conducting a research on a very old church in my are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hobby is dancing and going long distance walks. I also like chatting with my frie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would very much like to join this programme, in order to meet other civiliz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6"/>
          <a:stretch/>
        </p:blipFill>
        <p:spPr>
          <a:xfrm>
            <a:off x="5292720" y="1341360"/>
            <a:ext cx="3029040" cy="403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2:47:52Z</dcterms:created>
  <dc:creator>user</dc:creator>
  <dc:description/>
  <dc:language>en-US</dc:language>
  <cp:lastModifiedBy>user</cp:lastModifiedBy>
  <dcterms:modified xsi:type="dcterms:W3CDTF">2011-01-20T16:26:36Z</dcterms:modified>
  <cp:revision>6</cp:revision>
  <dc:subject/>
  <dc:title>Teachers’ profile</dc:title>
</cp:coreProperties>
</file>